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105-2266-486B-9EDE-A1101271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EB1-2BC6-40FF-8EAC-B0C80000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5C5-9269-4DC8-96E3-524D9690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CF3-E7DE-43AB-861E-BCF7C72A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62BE-AADD-48AE-989E-7BC7155D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3A03-A649-4AAA-8FF2-522A6749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C9EE-C998-4BC4-A70B-0876D5F4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8325-2032-46BF-A0CC-556D8AEC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445F-769A-408F-91AD-E14FD4C8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823B-198A-4861-8283-060ADCD3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2810-6600-486D-8019-329FEE07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ABF-B819-45D3-AAB0-E26B20A6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20DE-99E8-4237-B308-14DD4921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D0AA-2268-4357-80E9-9394A89B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7482-51C0-4CB8-B070-1E6188FC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2BFD-9F96-478E-A72E-D7CE51C7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B152-62C0-483F-B47D-9800DA14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29C-5F05-4E4B-B5FC-9F98485B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3EB-3691-4B0D-93FC-92B87A8F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EE7-4606-4385-AB53-BB201B23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39F-1401-416B-9D25-454C5A30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606-6FDF-4657-8E66-E42B26E2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680-F0D6-4569-84DA-049DB645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69D-9D24-438F-B149-98054EC0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561B-0DF0-4876-94AD-9D5A3E9A89E2}" type="slidenum">
              <a:rPr b="0" lang="en-A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8765-A649-47D8-B12E-6FADACF4BFC0}" type="slidenum">
              <a:rPr b="0" lang="en-A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cc"/>
                </a:solidFill>
                <a:latin typeface="Tahoma"/>
              </a:rPr>
              <a:t>Package Exampl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409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regional express delivery service company conducted a study to investigate the relationship between the cost of shipping a package, the package weight, and the distance shipp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wenty packages were randomly selected from among the large number received for shipment and an analysis of the shipping cost was conducted for each pack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ee </a:t>
            </a:r>
            <a:r>
              <a:rPr b="0" lang="en-AU" sz="2800" spc="-1" strike="noStrike">
                <a:solidFill>
                  <a:srgbClr val="ffcc66"/>
                </a:solidFill>
                <a:latin typeface="Tahoma"/>
              </a:rPr>
              <a:t>Package.xlsx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cc"/>
                </a:solidFill>
                <a:latin typeface="Tahoma"/>
              </a:rPr>
              <a:t>Package Exampl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stimate a simple linear regression model involving shipping cost and package we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terpret the slope coefficient as well as the 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A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dd another explanatory variable – distance shipped – to the model. Estimate and interpret this expanded mod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 does the 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A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for this model compare to that of the simple regression? Explain any difference between the two 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A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2:42:42Z</dcterms:created>
  <dc:creator>barqawi</dc:creator>
  <dc:description/>
  <dc:language>en-US</dc:language>
  <cp:lastModifiedBy>MUNIECE A ALFAR</cp:lastModifiedBy>
  <dcterms:modified xsi:type="dcterms:W3CDTF">2022-08-03T10:58:51Z</dcterms:modified>
  <cp:revision>19</cp:revision>
  <dc:subject/>
  <dc:title>FINC13-302/71-302 Quantitative Techniques in Finance</dc:title>
</cp:coreProperties>
</file>